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DB5C-AD23-4696-900D-3E538F00D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2E9E-BF40-4374-8CA2-118B10645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79EC-CD45-486A-A7D2-B2CE71AF4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CDBA-0AC2-4E30-9F20-492CB8B35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AA9B-C091-4700-A52F-CE8F8E1436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949A-5950-40B3-8804-80E6EAC20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AE27-07BF-4315-81D7-E9ECF97E5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1B9E-B859-4071-B64D-2BC81BEC5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B272-D205-4F08-8047-8194E03D3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D01E-21BB-46F1-BAF0-36B6776BE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DC3D-A8AD-40E5-80BC-ADC22F9C6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9ADB-84F0-48A1-8DD8-E055F5BB9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44CF-6B52-4E4F-B2EE-4E74568740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B7C4-7F71-4CD7-A93B-068F3E3BA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obin and Karen Go Camp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1 – Robin and Karen Put Up the 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2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3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4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5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. 7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669-B228-4376-8021-0924EF0946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90360"/>
            <a:ext cx="861048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Ch. 1 – Robin and Karen Put Up the Tent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 beautiful camping spot,” said Karen.  “Let’s put up the tent under this tr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K,” said Robin, and she opened the bag containing the various pieces of the Coleman Easy-Set-Up Dome 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fter laying out all the pieces on the ground like a set of algebra tiles, Karen and Robin realized that the instructions were mi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’re not missing,” said Robin, “they’re in co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9ADA-6BFC-4C49-B35D-84B4775EC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we break the code?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looks like we have to solve a problem or answer a question, and that will give us the key to the instructions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have a choice of two questions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one should we do?”  aske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834-5347-49F4-B8FF-79F3346358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2819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.  Solve for 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3378240" y="2622600"/>
                <a:ext cx="16509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9"/>
          <p:cNvSpPr/>
          <p:nvPr/>
        </p:nvSpPr>
        <p:spPr>
          <a:xfrm>
            <a:off x="914400" y="3657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.  The fraction       can represent different relationships.   Describe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3197160" y="3460680"/>
                <a:ext cx="308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uk.  I hate fractions.  Let’s do B.  It looks easier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ll,” said Robin, “2/5 could mean a linear measure, as in 2/5 of the distance between 0 and 1 on a number lin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2/5 could also mean a part-whole relationship as in 2 out of 5 people,” adde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could also mean a part-part relationship as in the ratio of length to width in a rectangle, 2 cm to 5 cm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79FA-B826-44DA-AF3C-AA32CFE4F1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684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 sooner had Robin finished describing the third meaning when the instructions magically decoded themselves and became perfectly cl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fortunately, since they were the instructions to how to set up an above ground swimming pool, they were no help in setting up the 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night fell and it started to rain, Robin and Karen huddled under the tree, holding the tent over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 hope we don’t get hit by lightning,” said Rob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t least we’d be warm,” said Ka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5B1-D4B1-499D-B13C-90712DEF3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e Your Chapt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gs to include in your chap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description of a dilemma faced by Karen and Ro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problem to solve or a question to answer, that is related to fractions, that will allow them to solve their dilem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solution to the problem, or answer to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052-FFDA-4558-AB5C-8C04A12D22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ank You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A82-D8F0-4FCF-90C9-D98EEF0225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23B1-CC0D-4AD5-9453-F528C2FCB6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-12 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n’t that fu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ake away from the K-4 and Gr.4-8 roo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ent on the experience of being the “tour guide” for our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6FC-ED37-4A90-869A-F142EE79AB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Key Lear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read our Key L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9DC7-73FB-4275-A99E-CCA02B43B6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How I Know I’ve Learned…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take a few minutes to walk around the room, looking at the work, and reading the success criteria on the blue c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163-7947-4CBA-BB77-62D179D045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Puzzle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ere your Ah-ha moments?  What will you bring to your practice next year? (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still puzzling you? (ic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iefly jot down your thoughts on a “Light Bulb” and a “Puzzle Piece” and place them on the Learning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3B2-5374-4184-BD62-A1380EE812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sponse to Light Bulbs and Puzzles Pie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133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few minutes to walk around the room reading and discussing the “Light Bulbs” and “Puzzles Pieces” with your collea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314-3A2E-45B3-82A7-B6365C3BE9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hea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some time to think about the next school year.  You may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in small group discussion around one of the Question Marks or Light Bulbs or any lingering burn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on a resource  related to one of the Light Bul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to explore the camp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CAD-9EC9-4DF0-9392-D915A654BF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obin and Karen Go Camp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(“Novel in an Hour” strategy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52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ain Character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 Robin and K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68E5-6BFC-4D4C-805B-CEDAF4B45E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ular Callout 4"/>
          <p:cNvSpPr/>
          <p:nvPr/>
        </p:nvSpPr>
        <p:spPr>
          <a:xfrm rot="20326200">
            <a:off x="406080" y="2482560"/>
            <a:ext cx="1272960" cy="923760"/>
          </a:xfrm>
          <a:prstGeom prst="wedgeRoundRectCallout">
            <a:avLst>
              <a:gd name="adj1" fmla="val 49222"/>
              <a:gd name="adj2" fmla="val -22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poiler Ale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828800" y="236232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Plot Summar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 Math Camp is finished and Robin and Karen decide to go camping for a few days to relax.  Unfortunately, they face a series of challenging and potentially dangerous situations, and it is only their knowledge of fractions that allows them to emerge triumphant and ready for school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7T11:26:25Z</dcterms:modified>
  <cp:revision>46</cp:revision>
  <dc:subject/>
  <dc:title>&lt;Title&gt;</dc:title>
</cp:coreProperties>
</file>